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A458-BDCD-4C78-B708-D3E3E3A83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C5EB3-81F1-4E61-B1C6-B2DFE5AF5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7B7C-3758-4793-BBD8-BC414C60C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9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91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12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9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91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2F6A-EE4F-468D-922A-3A0346D11A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3CB61-D43D-426D-8E8E-66E0F69470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54A5-EBA6-4BB6-A565-1FF2A459B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E7AC4-7DB0-48DB-8E5E-FDC35E49B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40835-27C1-431E-BAD1-6E3D3AF42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" y="1522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25A1-4BC7-4A50-8281-266A68CBF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F16F1-0B65-4127-9422-C384360FA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2F5A-B68A-41B8-99CF-DD27C3D90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EA98A-FAEA-4AED-8A97-F8CAC9CFC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5120"/>
            <a:ext cx="9144000" cy="27432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249120"/>
            <a:ext cx="8991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0"/>
            <a:ext cx="9144000" cy="27648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An Introduction to Metamode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192360" y="660060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Verdana"/>
              </a:rPr>
              <a:t>- </a:t>
            </a:r>
            <a:fld id="{3FCE10E9-E3A2-4283-829E-A248D94BC46F}" type="slidenum">
              <a:rPr b="1" lang="en-US" sz="9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153200" y="6613560"/>
            <a:ext cx="192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Comic Sans MS"/>
              </a:rPr>
              <a:t>© 2006 University of Y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omg.org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delware-ist.org/bb2Forum/index.php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Comic Sans MS"/>
              </a:rPr>
              <a:t>An Introduction to Metamod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2"/>
                </a:solidFill>
                <a:latin typeface="Comic Sans MS"/>
              </a:rPr>
              <a:t>Principles &amp; Fundamen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Department of Computer Scienc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The University of York, Heslington, York YO10 5DD, Eng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http://www.cs.york.ac.uk/~pa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6515280"/>
          <a:ext cx="242568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15280"/>
                    <a:ext cx="24256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1D829-0C48-4D3D-BACB-83F85C14B1F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Requirements for UM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 standard notatio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 general purpose modelling language, initially for software, but now encompassing all of system modelling in all domains, using dialect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Enables communicatio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(Presumably) Supported by tool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Usable, user-friendly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Extensibl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5F10-956E-49C9-ADD1-21EBB85736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Principles for Modelling Language Desig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Simplicity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Security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Drawable by tools and by hand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Readability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Clear syntax to enable identification of syntax error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Suitable structures for solving relevant problem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Proof rules for features of the languag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Use patterns from other language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Uniquenes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Underlying simple mapping for semantics of mode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C6F2-CA5F-4CB2-8F01-A83788F1861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Graphical Syntax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Captured using a metamode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In general, you can capture the </a:t>
            </a:r>
            <a:r>
              <a:rPr b="0" i="1" lang="en-GB" sz="2500" spc="-1" strike="noStrike">
                <a:solidFill>
                  <a:srgbClr val="000066"/>
                </a:solidFill>
                <a:latin typeface="Comic Sans MS"/>
              </a:rPr>
              <a:t>abstract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 syntax of a language and its </a:t>
            </a:r>
            <a:r>
              <a:rPr b="0" i="1" lang="en-GB" sz="2500" spc="-1" strike="noStrike">
                <a:solidFill>
                  <a:srgbClr val="000066"/>
                </a:solidFill>
                <a:latin typeface="Comic Sans MS"/>
              </a:rPr>
              <a:t>concrete 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syntax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Abstract syntax is analogous to abstract syntax trees for programming language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It conveys the essence of the syntax, and aggregate certain details that are less interesting (eg., syntax for a boolean expression language)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An abstract syntax tree is usually heterogeneou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Concrete syntax captures all the gory detail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6A2F-BBE7-4D37-AE4E-9E08257441C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Graphical Syntax (2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In general, this can be expressed in a suitably expressive </a:t>
            </a:r>
            <a:r>
              <a:rPr b="0" i="1" lang="en-GB" sz="2500" spc="-1" strike="noStrike">
                <a:solidFill>
                  <a:srgbClr val="000066"/>
                </a:solidFill>
                <a:latin typeface="Comic Sans MS"/>
              </a:rPr>
              <a:t>existing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 graphical languag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Then the semantics of the existing graphical language influences (or even defines) the semantics of the new language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However, UML is the standard modelling languag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So UML’s graphical syntax is defined in UM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Bootstrapping problem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This is why MOF/CWM have been introduced – you need to assume some axioms somewhere!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0F2C-E007-4015-976E-2467D1B73A6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Exampl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bstract Syntax for UML 2.0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bstract Syntax for OCL 2.0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See formal specifications available at </a:t>
            </a:r>
            <a:r>
              <a:rPr b="0" lang="en-GB" sz="25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www.omg.org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Work through parts of these specifications and explain some of the modelling concept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Notice the recurring use of certain patterns, e.g., Composit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FA041-5224-424F-AC57-35600A70020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Model vs Metamode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 model </a:t>
            </a:r>
            <a:r>
              <a:rPr b="0" i="1" lang="en-GB" sz="2500" spc="-1" strike="noStrike">
                <a:solidFill>
                  <a:srgbClr val="000066"/>
                </a:solidFill>
                <a:latin typeface="Comic Sans MS"/>
              </a:rPr>
              <a:t>conforms to 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or </a:t>
            </a:r>
            <a:r>
              <a:rPr b="0" i="1" lang="en-GB" sz="2500" spc="-1" strike="noStrike">
                <a:solidFill>
                  <a:srgbClr val="000066"/>
                </a:solidFill>
                <a:latin typeface="Comic Sans MS"/>
              </a:rPr>
              <a:t>complies with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 the metamode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You can also think of a model as an </a:t>
            </a:r>
            <a:r>
              <a:rPr b="0" i="1" lang="en-GB" sz="2500" spc="-1" strike="noStrike">
                <a:solidFill>
                  <a:srgbClr val="000066"/>
                </a:solidFill>
                <a:latin typeface="Comic Sans MS"/>
              </a:rPr>
              <a:t>instance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 of a metamode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hus, wrt the UML metamodel, a class is an instance of a ModelElement and a Classifier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It is usually helpful when drawing these things to think carefully about what level you’re working i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E630B-7725-4591-B535-0CB8EF8DFEA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Model Conformanc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L = (n:Notation, m:Metamodel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96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Metamodel = Syntax </a:t>
            </a:r>
            <a:r>
              <a:rPr b="0" i="1" lang="en-US" sz="2100" spc="-1" strike="noStrike">
                <a:solidFill>
                  <a:srgbClr val="000066"/>
                </a:solidFill>
                <a:latin typeface="Symbol"/>
                <a:ea typeface="Symbol"/>
              </a:rPr>
              <a:t>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 Semantic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96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Semantics = Single_View </a:t>
            </a:r>
            <a:r>
              <a:rPr b="0" i="1" lang="en-US" sz="2100" spc="-1" strike="noStrike">
                <a:solidFill>
                  <a:srgbClr val="000066"/>
                </a:solidFill>
                <a:latin typeface="Symbol"/>
                <a:ea typeface="Symbol"/>
              </a:rPr>
              <a:t>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 Cross_Cutting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96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96080" indent="-496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For any model 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m 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in notation 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n,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96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conforms(m,L)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 = </a:t>
            </a:r>
            <a:r>
              <a:rPr b="0" lang="en-US" sz="2100" spc="-1" strike="noStrike">
                <a:solidFill>
                  <a:srgbClr val="000066"/>
                </a:solidFill>
                <a:latin typeface="Symbol"/>
                <a:ea typeface="Symbol"/>
              </a:rPr>
              <a:t>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c </a:t>
            </a:r>
            <a:r>
              <a:rPr b="0" i="1" lang="en-US" sz="21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 Metamodel </a:t>
            </a:r>
            <a:r>
              <a:rPr b="0" i="1" lang="en-US" sz="21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 m </a:t>
            </a:r>
            <a:r>
              <a:rPr b="1" lang="en-US" sz="2100" spc="-1" strike="noStrike" u="sng">
                <a:solidFill>
                  <a:srgbClr val="000066"/>
                </a:solidFill>
                <a:uFillTx/>
                <a:latin typeface="Comic Sans MS"/>
              </a:rPr>
              <a:t>sat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c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96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96080" indent="-496080">
              <a:spcBef>
                <a:spcPts val="57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Comic Sans MS"/>
              </a:rPr>
              <a:t>If </a:t>
            </a:r>
            <a:r>
              <a:rPr b="1" lang="en-US" sz="2100" spc="-1" strike="noStrike">
                <a:solidFill>
                  <a:srgbClr val="009900"/>
                </a:solidFill>
                <a:latin typeface="Courier New"/>
              </a:rPr>
              <a:t>!conforms(m,L)</a:t>
            </a:r>
            <a:r>
              <a:rPr b="1" lang="en-US" sz="2100" spc="-1" strike="noStrike">
                <a:solidFill>
                  <a:srgbClr val="00cc99"/>
                </a:solidFill>
                <a:latin typeface="Courier New"/>
              </a:rPr>
              <a:t> </a:t>
            </a:r>
            <a:r>
              <a:rPr b="0" lang="en-US" sz="2300" spc="-1" strike="noStrike">
                <a:solidFill>
                  <a:srgbClr val="000066"/>
                </a:solidFill>
                <a:latin typeface="Comic Sans MS"/>
              </a:rPr>
              <a:t> this means that there is an inconsistency in the model </a:t>
            </a:r>
            <a:r>
              <a:rPr b="0" i="1" lang="en-US" sz="2300" spc="-1" strike="noStrike">
                <a:solidFill>
                  <a:srgbClr val="000066"/>
                </a:solidFill>
                <a:latin typeface="Comic Sans MS"/>
              </a:rPr>
              <a:t>m.</a:t>
            </a:r>
            <a:endParaRPr b="0" lang="en-US" sz="2300" spc="-1" strike="noStrike">
              <a:solidFill>
                <a:srgbClr val="000066"/>
              </a:solidFill>
              <a:latin typeface="Comic Sans MS"/>
            </a:endParaRPr>
          </a:p>
          <a:p>
            <a:pPr marL="496080" indent="-496080">
              <a:spcBef>
                <a:spcPts val="57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Comic Sans MS"/>
              </a:rPr>
              <a:t>Can also handle uncertainty, i.e., omission of essential information in the model.</a:t>
            </a:r>
            <a:endParaRPr b="0" lang="en-US" sz="2300" spc="-1" strike="noStrike">
              <a:solidFill>
                <a:srgbClr val="000066"/>
              </a:solidFill>
              <a:latin typeface="Comic Sans MS"/>
            </a:endParaRPr>
          </a:p>
          <a:p>
            <a:pPr lvl="1" marL="850320" indent="-42516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n general, uncertainty leads to instantiations of the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</a:rPr>
              <a:t>sat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relation that cannot be discharged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496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96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5E07-D80C-4DD5-BCE6-BCDD9A984CF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OMG’s Pyramid Diagram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3210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62120" y="3276720"/>
            <a:ext cx="754380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Comic Sans MS"/>
              </a:rPr>
              <a:t>The UML metamodel is at the M2 level (the meta-level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Comic Sans MS"/>
              </a:rPr>
              <a:t>A specific UML model is at the M1 level (the model level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Comic Sans MS"/>
              </a:rPr>
              <a:t>MOF is at the meta-meta-level: it is the language in which other languages are defined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There is also an M0 level which is an object configuration (ie., a snapsho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B2A3B-6E29-4B16-A77B-635B7F27C61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Semantic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Recall that UML’s semantics is loosely defined (at best)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06520" indent="-506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Suppose you want to know what the following diagram mean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06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06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06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06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06520" indent="-506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Look at the metamode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06520" indent="-506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Each class is an instance of Classifier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06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971800" y="2743200"/>
          <a:ext cx="311292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743200"/>
                    <a:ext cx="311292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ED6F6-8628-4923-A0FF-231A2BB61AF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Tools for Building Metamodel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UM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For: Promotes understandability, deals well with reasonably large structures, CASE for drawing model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Against: meta-circularity, semantic checking, pre-existing semantic fragmentation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 formal specification languag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For: avoids meta-circularity, existing proof system for semantic checking, possible to construct proofs of consistency/soundnes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Against: less understandable, expertise needed, transparency of the semantic mapping, backlash against FM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Work has been done using Z, B, PVS, other FM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44A52-438D-4333-8C26-33550606ADB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xt of this work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present courseware has been elaborated in the context of the MODELWARE European  IST FP6 project (http://www.modelware-ist.org/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Co-funded by the European Commission, the MODELWARE project involves 19 partners from 8 European countries. MODELWARE aims to improve software productivity by capitalizing on techniques known as Model-Driven Development (MDD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o achieve the goal of large-scale adoption of these MDD techniques, MODELWARE promotes the idea of a collaborative development of courseware dedicated to this domain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MDD courseware provided here with the status of open source software is produced under the EPL 1.0 license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0" name="" descr="www.modelware-ist.org Forum Inde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05240" y="247680"/>
            <a:ext cx="4838760" cy="13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01D5-6083-4023-8B7F-CE83D4FECFF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Tools for Building Metamodel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n executable languag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e.g., OCaml, Eiffel, JML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For: understandable, works in the small and in the large, pre-existing tools for compilation, metamodels can be tested and simulated easily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Against: risk of losing abstraction level, need transparency of mapping from modelling language, ongoing misconception that programs and models must be written in different language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B2B4D-D430-4B9E-9020-8CF697D3A711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Metamodelling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 controversial topic, and one that is currently critical within the UML/OMG/MDA community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 metamodel is just another model (e.g., written in UML)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Metamodels are examples of </a:t>
            </a:r>
            <a:r>
              <a:rPr b="0" i="1" lang="en-GB" sz="2500" spc="-1" strike="noStrike">
                <a:solidFill>
                  <a:srgbClr val="000066"/>
                </a:solidFill>
                <a:latin typeface="Comic Sans MS"/>
              </a:rPr>
              <a:t>domain-specific model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Other example domains: real-time systems, safety critical systems, e-busines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he domain of metamodelling is </a:t>
            </a:r>
            <a:r>
              <a:rPr b="0" i="1" lang="en-GB" sz="2500" spc="-1" strike="noStrike">
                <a:solidFill>
                  <a:srgbClr val="000066"/>
                </a:solidFill>
                <a:latin typeface="Comic Sans MS"/>
              </a:rPr>
              <a:t>language definition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hus, a metamodel is a </a:t>
            </a:r>
            <a:r>
              <a:rPr b="0" i="1" lang="en-GB" sz="2500" spc="-1" strike="noStrike">
                <a:solidFill>
                  <a:srgbClr val="000066"/>
                </a:solidFill>
                <a:latin typeface="Comic Sans MS"/>
              </a:rPr>
              <a:t>model of some part of a language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Which part depends on how the metamodel is to be used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Parts: syntax, semantics, views/diagrams, ..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F957-E7EF-4F35-A9C8-BC8531F1B7A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Uses for a Metamode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For defining the syntax and semantics of a languag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o explain the languag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o compare languages rigorously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o specify requirements for a tool for the languag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o specify a language to be used in a meta-tool (e.g., XMF)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o enable interchange between tool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4653B-8054-474E-8319-62D6D03FCD7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Language Desig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How would you go about designing a programming language?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What sort of programs do you want to allow programmers to create? (ie., user requirements)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Define a syntax (eg., EBNF)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Define semantics using structural induction over the constructs of the language, e.g., what do </a:t>
            </a:r>
            <a:r>
              <a:rPr b="0" i="1" lang="en-GB" sz="2000" spc="-1" strike="noStrike">
                <a:solidFill>
                  <a:srgbClr val="000066"/>
                </a:solidFill>
                <a:latin typeface="Comic Sans MS"/>
              </a:rPr>
              <a:t>while, if, ;, etc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 all mean?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Implement a compiler and librarie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Implement supporting tool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Build your killer app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In doing so, you would follow well-known principles of programming language desig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F872A-7873-43E8-A485-6A1CCB26175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Programming Language Desig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he primary purpose of a programming language (PL) is to help a programmer to write program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ie., language design is </a:t>
            </a:r>
            <a:r>
              <a:rPr b="0" i="1" lang="en-GB" sz="2000" spc="-1" strike="noStrike">
                <a:solidFill>
                  <a:srgbClr val="000066"/>
                </a:solidFill>
                <a:latin typeface="Comic Sans MS"/>
              </a:rPr>
              <a:t>not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 an exercise in and of itself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if the language gets in the way, then it’s not a good one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Other requirements, e.g., portability, stability, existing popularity, sponsorship by powerful organizations, should not be dominant factor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86BF7-5EA9-44E0-9112-1CC23C127AF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User Requirements for a P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 PL should give assistance in expressing what a program should accomplish and how it should execut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 PL will encourage and assist in producing self-documenting cod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To find out what a program does, you (ideally) will be able to look in one place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 PL will give assistance in finding error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947F-DC07-48BD-B837-50BFD109A94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Principles of Programming Language Desig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Simplicity is absolutely necessary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Otherwise how will the designer know the consequences of their design decisions?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Pursue this to the extreme!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Security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Fast generation of efficient code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Readability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Clear syntax to enable identification of syntax errors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Suitable structures for solving relevant problems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Proof rules for features of the language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Use patterns from other languages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Uniqueness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5F53-C661-49A4-A9B1-841CAA5B555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Modelling Language Desig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How would you design a modelling language like UML?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In theory, you would like to apply roughly the same process as one does with PL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Can we learn by analogy?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What are the user requirements for the graphical language?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Define the syntax for the graphical language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Define the semantics for the graphical language via some analogy to structural induction over the syntax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Implement a compiler, tools, etc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Build a killer app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Ideally, all done using well understood rules for visual language desig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4F5C4-E4E9-4484-99DD-3907FCB82D9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21:25Z</dcterms:created>
  <dc:creator>David Touzet</dc:creator>
  <dc:description/>
  <dc:language>en-US</dc:language>
  <cp:lastModifiedBy>Kurtev</cp:lastModifiedBy>
  <dcterms:modified xsi:type="dcterms:W3CDTF">2006-07-17T11:37:56Z</dcterms:modified>
  <cp:revision>862</cp:revision>
  <dc:subject/>
  <dc:title>Models Manip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74204776</vt:r8>
  </property>
  <property fmtid="{D5CDD505-2E9C-101B-9397-08002B2CF9AE}" pid="3" name="_AuthorEmail">
    <vt:lpwstr>jean.bezivin@univ-nantes.fr</vt:lpwstr>
  </property>
  <property fmtid="{D5CDD505-2E9C-101B-9397-08002B2CF9AE}" pid="4" name="_AuthorEmailDisplayName">
    <vt:lpwstr>Jean Bezivin</vt:lpwstr>
  </property>
  <property fmtid="{D5CDD505-2E9C-101B-9397-08002B2CF9AE}" pid="5" name="_EmailSubject">
    <vt:lpwstr>ModelWare 4.6</vt:lpwstr>
  </property>
  <property fmtid="{D5CDD505-2E9C-101B-9397-08002B2CF9AE}" pid="6" name="_ReviewingToolsShownOnce">
    <vt:lpwstr/>
  </property>
</Properties>
</file>